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CCB-EEA1-4154-92C6-EB9105A9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D68-7649-4EE2-A6BB-6EE7EA7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67B-C1FC-4649-AFEA-CAB71E95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030-0F67-4EBB-BB04-A50B5A2F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4B735-D16F-4743-8BF3-161CF327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44129-5A35-40FD-8A00-51659D4A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4EC37-C843-42F8-9A0A-64D1D71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D5BD1-C049-4B67-B6EE-1365698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42BC9-1DB4-4151-9F81-5BCC971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72805-F822-4444-9E92-9A600C7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CC77-1E6C-44B5-AACB-6DFFCCD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55E-19A7-4ADA-A8DA-F7FD736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10458-C546-4DBF-A1A6-F3CC0E4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D342-22ED-4F82-A7E7-8BCFA76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4E548-277B-4076-8CCB-2B8BE2BE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B19E-90BF-44CF-A459-BE37D0B8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2C94D-55ED-4AAE-8A47-58512CA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EBE-AD61-4E1E-A001-F6CE5F2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D6D-60F5-4CCC-AD6E-9802AE2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DC8-04D1-477E-9A09-022A0E97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76A-BFFE-4330-9737-EEE7864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A87-A385-4945-8193-4DB2C1EA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513-F2E1-418A-BB9E-FFF2C61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E27-8D8E-45E5-9446-7E20363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B359-23C3-4FE9-BC97-481C459D6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20D-D7AC-4902-BA24-ACB56F92C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33360"/>
            <a:ext cx="475308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X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radas de dulce embrujo de am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han llenado el alma, más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grana de esa b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ún al censor es sa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el corazón de esa cier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e ablanda, posará el mí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su rebaño no cu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i ve que el mío se ha huí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la es todo para 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para mí, y la he perd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Éstas son, ay mis censo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 amor señas declar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uspiros abra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nque se aneguen en lágrima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0"/>
            <a:ext cx="4248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s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alle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rga sobre mí me abru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yo vele y ella due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conduce a la lo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halla el corazón respi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anto amor y amarg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ja de mi ser un po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(ni creo que a quedar vay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y así  verás a qué extre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conduce mi desgra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ía, al lado de Hauzáni, es la flecha ganadora.¡Oh sable fino del Yemen al que sus hazañas doran; ángel con semblante humano que la descripción desbord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eón de las espesur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uerte que plazos señal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rora que, cuando brill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l mundo entero engalan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0"/>
            <a:ext cx="7200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bu Hafs, párate un pu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gias te recito: atie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i se gloria el imper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un corazón bravo y f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mío toma en albrici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a tu lado has de acoger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Para nutrir a los homb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ios te hizo a ti pura dád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Tanta merced celebremo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¡Subamos cimas tan alta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907920"/>
            <a:ext cx="47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765000"/>
            <a:ext cx="558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una de teñidos de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es de la belleza esen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cella que todos m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que: ilumina estas tierr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uí a ver, entrando el veran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cantó por mí y por ell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LBO DlYA H ESTE DlYA H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lYA DEL  ANSARA HAQQ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ESTlRÉY ME-W L-MUDABB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WA NASUQQU R-RUMHA SAQQ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[ALBO DÍA ESTE D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ÍA DE LA ANSARA EN VER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STIRÉ MI JUB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QUEBRAREMOS LA LANZA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16:12Z</dcterms:created>
  <dc:creator> </dc:creator>
  <dc:description/>
  <dc:language>en-US</dc:language>
  <cp:lastModifiedBy> </cp:lastModifiedBy>
  <dcterms:modified xsi:type="dcterms:W3CDTF">2007-09-29T01:46:28Z</dcterms:modified>
  <cp:revision>4</cp:revision>
  <dc:subject/>
  <dc:title>Diapositiva 1</dc:title>
</cp:coreProperties>
</file>